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2FEC6-FB7B-46CF-BE82-9D3625731D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08252-2F34-42FF-B675-BFD7242B4D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35F23-1396-4A48-B806-534BBA4999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E8253-5AD7-464C-B9F1-CACF5C1510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8E481-1482-4F68-AE05-D84E75FD98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33C43-8BBC-44D6-AC1D-9E261B369B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9BF28-5B8C-40F8-B85D-30ADDDE17D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030EB-3FB4-4BF8-B38B-C16BFAD9E2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F2134-A907-4E62-871C-7A1B8A6488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2F0DA-245F-4AE8-AE7B-950106EB55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C94D1-4A70-42DC-8AA1-1C3D48340E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D7D8F-9115-40B2-99C6-6D5709A497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ogo" descr="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99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marL="2858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2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499"/>
              </a:spcBef>
              <a:buClr>
                <a:srgbClr val="002b5d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499"/>
              </a:spcBef>
              <a:buClr>
                <a:srgbClr val="002b5d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39400">
              <a:spcBef>
                <a:spcPts val="499"/>
              </a:spcBef>
              <a:buClr>
                <a:srgbClr val="002b5d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828880" y="2693880"/>
            <a:ext cx="41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43000"/>
            <a:ext cx="775476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6840" y="1996920"/>
            <a:ext cx="899460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3040" y="3038400"/>
            <a:ext cx="14893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0" y="6552720"/>
            <a:ext cx="7391520" cy="3049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4266720" y="655272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89582432-F87F-418B-A16D-631596C401FD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2819520"/>
            <a:ext cx="56386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logo" descr=""/>
          <p:cNvPicPr/>
          <p:nvPr/>
        </p:nvPicPr>
        <p:blipFill>
          <a:blip r:embed="rId3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genda SPM-Jour Fix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92160" y="1371600"/>
            <a:ext cx="7712280" cy="40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buClr>
                <a:srgbClr val="ffcc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urchsprache change request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5 mi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urchsprache Projekt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opar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er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lysse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-Ci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enelo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ri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gemeines / Organisatorisches / Action Item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994360" y="1143000"/>
            <a:ext cx="281952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1143000"/>
            <a:ext cx="281952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4160" y="1143000"/>
            <a:ext cx="281916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rogress N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16000" y="1346040"/>
          <a:ext cx="8458200" cy="6756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00" y="1346040"/>
                    <a:ext cx="8458200" cy="675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isks and Action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10280" y="257040"/>
            <a:ext cx="327240" cy="65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10360" y="317520"/>
            <a:ext cx="130320" cy="1238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10360" y="522360"/>
            <a:ext cx="130320" cy="122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10360" y="725400"/>
            <a:ext cx="130320" cy="123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28600" y="1143000"/>
          <a:ext cx="8432640" cy="5067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143000"/>
                    <a:ext cx="843264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0:16:27Z</dcterms:created>
  <dc:creator>MDamms</dc:creator>
  <dc:description/>
  <dc:language>en-US</dc:language>
  <cp:lastModifiedBy>Siemens-Mitarbeiter</cp:lastModifiedBy>
  <cp:lastPrinted>2003-07-02T13:24:00Z</cp:lastPrinted>
  <dcterms:modified xsi:type="dcterms:W3CDTF">2003-09-26T06:43:10Z</dcterms:modified>
  <cp:revision>81</cp:revision>
  <dc:subject/>
  <dc:title>No Slide Title</dc:title>
</cp:coreProperties>
</file>